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6CE-6AE5-4DEB-B0FA-2DADD06D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B35-6E64-4E65-B5FB-44875A3C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794-C16A-48C9-A246-7EB82B5B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9A5-F866-4157-BFDA-6BC4B63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6D5C-FFFE-4C82-B4BF-FE5A8B7B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F42F-C9C1-4C4E-B663-8B2C60F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661-AA0A-4E19-830A-9AE6C01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6E26-0D5E-4360-8CC9-C5CC4AE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7D93-C3CF-48C5-A677-F21CEA9B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CE09-9364-49A2-ACB9-3DE337D1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B291-59D2-4203-A1BA-6CE6742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B9B-B738-4A02-8D4A-78A97B1C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64F7-EB9E-475E-8F64-F087F80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0AF1-1FC2-4D17-8A1F-334E05B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55F-587D-4E54-B898-7C1797BE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6AD6-9C68-4D29-AA9B-CD246815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B0C3-313B-47A3-A288-077C1C3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87D-E849-43F8-AD31-1AF59EC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656-F89C-4F1F-AB38-A271DE7B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CFB-827E-460E-831E-F35F75AF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2A4-1912-411C-80E9-DAAE19F9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835-A163-46C5-A3D3-22DE7BB2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A28-D3B7-4C7C-9656-F042E4E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9D3-9DE1-419C-B0E7-FAD85B0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AEEE-C609-445E-BF33-EB8100EEE9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F62-BBC7-404D-95FB-1646CA2EED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800600" cy="31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438280"/>
            <a:ext cx="5562360" cy="27432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LEC</a:t>
            </a:r>
            <a:r>
              <a:rPr b="0" lang="ro-RO" sz="4000" spc="-1" strike="noStrike">
                <a:solidFill>
                  <a:srgbClr val="ff0000"/>
                </a:solidFill>
                <a:latin typeface="Comic Sans MS"/>
              </a:rPr>
              <a:t>Ţ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A ME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 DES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143000"/>
            <a:ext cx="1600200" cy="304920"/>
          </a:xfrm>
          <a:prstGeom prst="rect">
            <a:avLst/>
          </a:prstGeom>
          <a:solidFill>
            <a:srgbClr val="b6b2b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5791320"/>
            <a:ext cx="2667240" cy="914400"/>
          </a:xfrm>
          <a:prstGeom prst="ellipse">
            <a:avLst/>
          </a:prstGeom>
          <a:solidFill>
            <a:srgbClr val="ffef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V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48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sa me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6483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caria mea prefe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3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 as vrea sa fi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79600" y="1219320"/>
            <a:ext cx="4245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Diploma m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934320" cy="3657600"/>
          </a:xfrm>
          <a:prstGeom prst="rect">
            <a:avLst/>
          </a:prstGeom>
          <a:gradFill rotWithShape="0">
            <a:gsLst>
              <a:gs pos="0">
                <a:srgbClr val="ffb800">
                  <a:alpha val="62352"/>
                </a:srgbClr>
              </a:gs>
              <a:gs pos="100000">
                <a:srgbClr val="755400">
                  <a:alpha val="89019"/>
                </a:srgbClr>
              </a:gs>
            </a:gsLst>
            <a:lin ang="8100000"/>
          </a:gradFill>
          <a:ln w="255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acord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66cc"/>
                </a:solidFill>
                <a:latin typeface="Comic Sans MS"/>
              </a:rPr>
              <a:t>DIPLOMA DE MER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tru cel mai bu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nator al clase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data d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 februarie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091320" y="19461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524800">
            <a:off x="5333760" y="3276720"/>
            <a:ext cx="1981080" cy="1887480"/>
          </a:xfrm>
          <a:prstGeom prst="rect">
            <a:avLst/>
          </a:prstGeom>
          <a:ln w="158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5:03:33Z</dcterms:created>
  <dc:creator>curs</dc:creator>
  <dc:description/>
  <dc:language>en-US</dc:language>
  <cp:lastModifiedBy>curs</cp:lastModifiedBy>
  <dcterms:modified xsi:type="dcterms:W3CDTF">2011-02-25T14:41:18Z</dcterms:modified>
  <cp:revision>7</cp:revision>
  <dc:subject/>
  <dc:title>Colectie de desene</dc:title>
</cp:coreProperties>
</file>